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496-F16D-425F-AD70-B51A0FFA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63DE-D420-4217-8A33-A8C1B08E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0515-FA68-48FF-BC1F-AAAE191A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0375-5518-4A59-AECF-7E74A0DD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374-CCB4-46A2-A6C0-E240D98E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9206-70FF-4CFE-A9EF-E652B5F8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746F-22DB-41D5-8D1F-5011443F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D4CE-EE08-4BA7-9E9C-69574B26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4BE3-C393-45EF-9A68-9CD4F3EA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0487-EA30-43FC-B31E-67CB31AA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258C-45F0-4D64-83C7-DFCA0407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7320-6203-4181-8CE0-DCAA17FC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2145-3906-4CA9-99BC-10E7A2484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755200" cy="566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4"/>
          <a:stretch/>
        </p:blipFill>
        <p:spPr>
          <a:xfrm>
            <a:off x="539640" y="2421000"/>
            <a:ext cx="3975120" cy="635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5"/>
          <a:stretch/>
        </p:blipFill>
        <p:spPr>
          <a:xfrm>
            <a:off x="896760" y="3860640"/>
            <a:ext cx="3530880" cy="622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6"/>
          <a:stretch/>
        </p:blipFill>
        <p:spPr>
          <a:xfrm>
            <a:off x="34920" y="5300640"/>
            <a:ext cx="456408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6421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250920" y="513072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شر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 بعد المو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3"/>
          <a:stretch/>
        </p:blipFill>
        <p:spPr>
          <a:xfrm>
            <a:off x="231840" y="981000"/>
            <a:ext cx="8634240" cy="54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4"/>
          <a:stretch/>
        </p:blipFill>
        <p:spPr>
          <a:xfrm>
            <a:off x="250920" y="3789360"/>
            <a:ext cx="8605800" cy="134136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324000" y="1628640"/>
            <a:ext cx="856908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ؤية الله عز وجل والدليل 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5"/>
          <a:stretch/>
        </p:blipFill>
        <p:spPr>
          <a:xfrm>
            <a:off x="2771640" y="2276640"/>
            <a:ext cx="61214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13"/>
          <a:stretch/>
        </p:blipFill>
        <p:spPr>
          <a:xfrm>
            <a:off x="539640" y="2276640"/>
            <a:ext cx="813600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-3240"/>
            <a:ext cx="9132840" cy="127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97200" y="4653000"/>
            <a:ext cx="3568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95400" y="828720"/>
            <a:ext cx="898344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675640" cy="460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4680" y="888840"/>
            <a:ext cx="9144000" cy="77004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00536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يسر إلى طريق الجنة من يشاء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4935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ن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954000"/>
            <a:ext cx="3601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يق غير المؤمنين وطريق المؤمن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43700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55166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وم القيامة نجمع جميع الخل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صنام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2700360" y="981000"/>
            <a:ext cx="4680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حمة الله بالعباد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عاهم إلى دار السلام ويسر سلوك طريقها وهدى من جد في طل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ؤية المؤمنين لربهم جل وعلا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ثب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رؤية المؤمنين لربهم جل وعلا في الآخرة 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61620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يجازي على السيئ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ثلها من غير تضعي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4078440"/>
            <a:ext cx="866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وء السيئ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تورثه من حسرة وندامة وما توجبه من خسر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456876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البعث والجز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2"/>
          <a:stretch/>
        </p:blipFill>
        <p:spPr>
          <a:xfrm>
            <a:off x="2484360" y="3030480"/>
            <a:ext cx="6335640" cy="40320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179280" y="506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بلاغة القرآن الكري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رض مشاهد القيامة وتصوير أحوال الآخرة كأنها رأي الع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553896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يعبده المشرك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علم بعبادتهم وسيكون عدواً لهم ويتبراً منهم يوم القي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60278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عبادة غير الله سواء كان المعبود نبياً أو ولياً أو حجراً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8670960" cy="223200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324000" y="342900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ذا من سوء السيئة وما تورثه من حسرة وندامة وما توجبه من خسر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7T06:03:02Z</dcterms:modified>
  <cp:revision>1938</cp:revision>
  <dc:subject/>
  <dc:title>عرض تقديمي في PowerPoint</dc:title>
</cp:coreProperties>
</file>